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980-1A87-4959-9A4B-76CD3DAB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EB2-F278-4AD4-8ED2-D791ABD7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AA8-A6EC-45E7-90A8-041C128B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122-3E67-4B8E-A721-66B9E921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EC3-B1C6-4E7A-B04F-C2FB4606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F13-B4DC-4361-98E0-56EAEF7E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402-524E-4C24-B3D6-152B5D5E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E18-67CB-4DEC-BA8F-4C5F6396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195-2BB9-4125-B27B-DBD3F415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5E4-E1B6-4989-9676-B201B4F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034-3B5F-4F5C-94D8-FFEF1B84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B4C-5B30-474A-9CBF-AC1A4CC7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FD4A-28BA-4BED-952B-004FC81A26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image" Target="../media/image33.wmf"/><Relationship Id="rId15" Type="http://schemas.openxmlformats.org/officeDocument/2006/relationships/image" Target="../media/image34.wmf"/><Relationship Id="rId16" Type="http://schemas.openxmlformats.org/officeDocument/2006/relationships/image" Target="../media/image35.wmf"/><Relationship Id="rId17" Type="http://schemas.openxmlformats.org/officeDocument/2006/relationships/image" Target="../media/image36.wmf"/><Relationship Id="rId18" Type="http://schemas.openxmlformats.org/officeDocument/2006/relationships/image" Target="../media/image37.wmf"/><Relationship Id="rId19" Type="http://schemas.openxmlformats.org/officeDocument/2006/relationships/image" Target="../media/image38.wmf"/><Relationship Id="rId20" Type="http://schemas.openxmlformats.org/officeDocument/2006/relationships/image" Target="../media/image39.wmf"/><Relationship Id="rId2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1330200" cy="101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1079640" cy="825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1880" y="1268280"/>
            <a:ext cx="31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-DVR (Embedded - Digtal Video Recor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6720" y="277812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C-DV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225440" cy="9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4640" y="13017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050920" y="1773360"/>
            <a:ext cx="1258920" cy="101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84000" y="27813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C-DV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437080" y="404640"/>
            <a:ext cx="1258920" cy="9018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981800" y="333360"/>
            <a:ext cx="1256400" cy="872280"/>
            <a:chOff x="1981800" y="333360"/>
            <a:chExt cx="1256400" cy="872280"/>
          </a:xfrm>
        </p:grpSpPr>
        <p:sp>
          <p:nvSpPr>
            <p:cNvPr id="51" name=""/>
            <p:cNvSpPr/>
            <p:nvPr/>
          </p:nvSpPr>
          <p:spPr>
            <a:xfrm>
              <a:off x="2048040" y="808560"/>
              <a:ext cx="18000" cy="125280"/>
            </a:xfrm>
            <a:custGeom>
              <a:avLst/>
              <a:gdLst/>
              <a:ahLst/>
              <a:rect l="l" t="t" r="r" b="b"/>
              <a:pathLst>
                <a:path w="9" h="62">
                  <a:moveTo>
                    <a:pt x="9" y="0"/>
                  </a:moveTo>
                  <a:lnTo>
                    <a:pt x="9" y="59"/>
                  </a:lnTo>
                  <a:lnTo>
                    <a:pt x="0" y="62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800" y="778680"/>
              <a:ext cx="66240" cy="155160"/>
            </a:xfrm>
            <a:custGeom>
              <a:avLst/>
              <a:gdLst/>
              <a:ahLst/>
              <a:rect l="l" t="t" r="r" b="b"/>
              <a:pathLst>
                <a:path w="33" h="77">
                  <a:moveTo>
                    <a:pt x="33" y="19"/>
                  </a:moveTo>
                  <a:lnTo>
                    <a:pt x="33" y="77"/>
                  </a:lnTo>
                  <a:lnTo>
                    <a:pt x="0" y="58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66400" y="808560"/>
              <a:ext cx="451800" cy="397080"/>
            </a:xfrm>
            <a:custGeom>
              <a:avLst/>
              <a:gdLst/>
              <a:ahLst/>
              <a:rect l="l" t="t" r="r" b="b"/>
              <a:pathLst>
                <a:path w="433" h="380">
                  <a:moveTo>
                    <a:pt x="433" y="267"/>
                  </a:moveTo>
                  <a:cubicBezTo>
                    <a:pt x="432" y="380"/>
                    <a:pt x="432" y="380"/>
                    <a:pt x="432" y="380"/>
                  </a:cubicBezTo>
                  <a:cubicBezTo>
                    <a:pt x="415" y="369"/>
                    <a:pt x="89" y="176"/>
                    <a:pt x="49" y="154"/>
                  </a:cubicBezTo>
                  <a:cubicBezTo>
                    <a:pt x="10" y="131"/>
                    <a:pt x="1" y="114"/>
                    <a:pt x="0" y="11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1" y="19"/>
                    <a:pt x="50" y="41"/>
                  </a:cubicBezTo>
                  <a:cubicBezTo>
                    <a:pt x="89" y="64"/>
                    <a:pt x="415" y="257"/>
                    <a:pt x="433" y="267"/>
                  </a:cubicBezTo>
                  <a:cubicBezTo>
                    <a:pt x="433" y="267"/>
                    <a:pt x="433" y="267"/>
                    <a:pt x="433" y="267"/>
                  </a:cubicBezTo>
                  <a:cubicBezTo>
                    <a:pt x="433" y="267"/>
                    <a:pt x="433" y="267"/>
                    <a:pt x="433" y="267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16040" y="671400"/>
              <a:ext cx="720360" cy="534240"/>
            </a:xfrm>
            <a:custGeom>
              <a:avLst/>
              <a:gdLst/>
              <a:ahLst/>
              <a:rect l="l" t="t" r="r" b="b"/>
              <a:pathLst>
                <a:path w="357" h="265">
                  <a:moveTo>
                    <a:pt x="357" y="0"/>
                  </a:moveTo>
                  <a:lnTo>
                    <a:pt x="357" y="58"/>
                  </a:lnTo>
                  <a:lnTo>
                    <a:pt x="0" y="265"/>
                  </a:lnTo>
                  <a:lnTo>
                    <a:pt x="1" y="207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800" y="361080"/>
              <a:ext cx="1254600" cy="727920"/>
            </a:xfrm>
            <a:custGeom>
              <a:avLst/>
              <a:gdLst/>
              <a:ahLst/>
              <a:rect l="l" t="t" r="r" b="b"/>
              <a:pathLst>
                <a:path w="1203" h="697">
                  <a:moveTo>
                    <a:pt x="1203" y="297"/>
                  </a:moveTo>
                  <a:cubicBezTo>
                    <a:pt x="515" y="697"/>
                    <a:pt x="515" y="697"/>
                    <a:pt x="515" y="697"/>
                  </a:cubicBezTo>
                  <a:cubicBezTo>
                    <a:pt x="497" y="687"/>
                    <a:pt x="171" y="494"/>
                    <a:pt x="132" y="471"/>
                  </a:cubicBezTo>
                  <a:cubicBezTo>
                    <a:pt x="93" y="449"/>
                    <a:pt x="83" y="431"/>
                    <a:pt x="83" y="430"/>
                  </a:cubicBezTo>
                  <a:cubicBezTo>
                    <a:pt x="64" y="437"/>
                    <a:pt x="64" y="437"/>
                    <a:pt x="64" y="437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689" y="0"/>
                    <a:pt x="689" y="0"/>
                    <a:pt x="689" y="0"/>
                  </a:cubicBezTo>
                  <a:cubicBezTo>
                    <a:pt x="1203" y="297"/>
                    <a:pt x="1203" y="297"/>
                    <a:pt x="1203" y="297"/>
                  </a:cubicBezTo>
                  <a:cubicBezTo>
                    <a:pt x="1203" y="297"/>
                    <a:pt x="1203" y="297"/>
                    <a:pt x="1203" y="297"/>
                  </a:cubicBezTo>
                  <a:cubicBezTo>
                    <a:pt x="1203" y="297"/>
                    <a:pt x="1203" y="297"/>
                    <a:pt x="1203" y="297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22520" y="643680"/>
              <a:ext cx="715680" cy="435240"/>
            </a:xfrm>
            <a:custGeom>
              <a:avLst/>
              <a:gdLst/>
              <a:ahLst/>
              <a:rect l="l" t="t" r="r" b="b"/>
              <a:pathLst>
                <a:path w="355" h="216">
                  <a:moveTo>
                    <a:pt x="355" y="0"/>
                  </a:moveTo>
                  <a:lnTo>
                    <a:pt x="355" y="9"/>
                  </a:lnTo>
                  <a:lnTo>
                    <a:pt x="0" y="216"/>
                  </a:lnTo>
                  <a:lnTo>
                    <a:pt x="0" y="207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3600" y="750240"/>
              <a:ext cx="538560" cy="328680"/>
            </a:xfrm>
            <a:custGeom>
              <a:avLst/>
              <a:gdLst/>
              <a:ahLst/>
              <a:rect l="l" t="t" r="r" b="b"/>
              <a:pathLst>
                <a:path w="267" h="163">
                  <a:moveTo>
                    <a:pt x="267" y="154"/>
                  </a:moveTo>
                  <a:lnTo>
                    <a:pt x="267" y="16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7" y="154"/>
                  </a:lnTo>
                  <a:lnTo>
                    <a:pt x="267" y="154"/>
                  </a:lnTo>
                  <a:lnTo>
                    <a:pt x="267" y="154"/>
                  </a:lnTo>
                  <a:lnTo>
                    <a:pt x="267" y="15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3600" y="333360"/>
              <a:ext cx="1254600" cy="727920"/>
            </a:xfrm>
            <a:custGeom>
              <a:avLst/>
              <a:gdLst/>
              <a:ahLst/>
              <a:rect l="l" t="t" r="r" b="b"/>
              <a:pathLst>
                <a:path w="622" h="361">
                  <a:moveTo>
                    <a:pt x="622" y="154"/>
                  </a:moveTo>
                  <a:lnTo>
                    <a:pt x="267" y="361"/>
                  </a:lnTo>
                  <a:lnTo>
                    <a:pt x="0" y="207"/>
                  </a:lnTo>
                  <a:lnTo>
                    <a:pt x="357" y="0"/>
                  </a:lnTo>
                  <a:lnTo>
                    <a:pt x="622" y="154"/>
                  </a:lnTo>
                  <a:lnTo>
                    <a:pt x="622" y="154"/>
                  </a:lnTo>
                  <a:lnTo>
                    <a:pt x="622" y="154"/>
                  </a:lnTo>
                  <a:lnTo>
                    <a:pt x="622" y="15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3320" y="643680"/>
              <a:ext cx="987840" cy="330480"/>
            </a:xfrm>
            <a:custGeom>
              <a:avLst/>
              <a:gdLst/>
              <a:ahLst/>
              <a:rect l="l" t="t" r="r" b="b"/>
              <a:pathLst>
                <a:path w="946" h="317">
                  <a:moveTo>
                    <a:pt x="532" y="240"/>
                  </a:moveTo>
                  <a:cubicBezTo>
                    <a:pt x="411" y="310"/>
                    <a:pt x="214" y="310"/>
                    <a:pt x="92" y="240"/>
                  </a:cubicBezTo>
                  <a:cubicBezTo>
                    <a:pt x="30" y="204"/>
                    <a:pt x="0" y="158"/>
                    <a:pt x="0" y="111"/>
                  </a:cubicBezTo>
                  <a:cubicBezTo>
                    <a:pt x="0" y="113"/>
                    <a:pt x="0" y="116"/>
                    <a:pt x="0" y="118"/>
                  </a:cubicBezTo>
                  <a:cubicBezTo>
                    <a:pt x="0" y="164"/>
                    <a:pt x="30" y="211"/>
                    <a:pt x="92" y="246"/>
                  </a:cubicBezTo>
                  <a:cubicBezTo>
                    <a:pt x="214" y="317"/>
                    <a:pt x="411" y="317"/>
                    <a:pt x="532" y="246"/>
                  </a:cubicBezTo>
                  <a:cubicBezTo>
                    <a:pt x="946" y="6"/>
                    <a:pt x="946" y="6"/>
                    <a:pt x="946" y="6"/>
                  </a:cubicBezTo>
                  <a:cubicBezTo>
                    <a:pt x="946" y="0"/>
                    <a:pt x="946" y="0"/>
                    <a:pt x="946" y="0"/>
                  </a:cubicBezTo>
                  <a:cubicBezTo>
                    <a:pt x="532" y="240"/>
                    <a:pt x="532" y="240"/>
                    <a:pt x="532" y="240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40920" y="377640"/>
              <a:ext cx="1020240" cy="588240"/>
            </a:xfrm>
            <a:custGeom>
              <a:avLst/>
              <a:gdLst/>
              <a:ahLst/>
              <a:rect l="l" t="t" r="r" b="b"/>
              <a:pathLst>
                <a:path w="977" h="565">
                  <a:moveTo>
                    <a:pt x="534" y="0"/>
                  </a:moveTo>
                  <a:cubicBezTo>
                    <a:pt x="977" y="255"/>
                    <a:pt x="977" y="255"/>
                    <a:pt x="977" y="255"/>
                  </a:cubicBezTo>
                  <a:cubicBezTo>
                    <a:pt x="563" y="495"/>
                    <a:pt x="563" y="495"/>
                    <a:pt x="563" y="495"/>
                  </a:cubicBezTo>
                  <a:cubicBezTo>
                    <a:pt x="442" y="565"/>
                    <a:pt x="245" y="565"/>
                    <a:pt x="123" y="495"/>
                  </a:cubicBezTo>
                  <a:cubicBezTo>
                    <a:pt x="1" y="424"/>
                    <a:pt x="0" y="310"/>
                    <a:pt x="121" y="24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534" y="0"/>
                    <a:pt x="534" y="0"/>
                    <a:pt x="534" y="0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88760" y="405360"/>
              <a:ext cx="340560" cy="19728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67"/>
                  </a:moveTo>
                  <a:lnTo>
                    <a:pt x="116" y="98"/>
                  </a:lnTo>
                  <a:lnTo>
                    <a:pt x="0" y="31"/>
                  </a:lnTo>
                  <a:lnTo>
                    <a:pt x="53" y="0"/>
                  </a:lnTo>
                  <a:lnTo>
                    <a:pt x="169" y="67"/>
                  </a:lnTo>
                  <a:lnTo>
                    <a:pt x="169" y="67"/>
                  </a:lnTo>
                  <a:lnTo>
                    <a:pt x="169" y="67"/>
                  </a:lnTo>
                  <a:lnTo>
                    <a:pt x="169" y="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78880" y="726120"/>
              <a:ext cx="252360" cy="88920"/>
            </a:xfrm>
            <a:custGeom>
              <a:avLst/>
              <a:gdLst/>
              <a:ahLst/>
              <a:rect l="l" t="t" r="r" b="b"/>
              <a:pathLst>
                <a:path w="241" h="85">
                  <a:moveTo>
                    <a:pt x="241" y="1"/>
                  </a:moveTo>
                  <a:cubicBezTo>
                    <a:pt x="241" y="4"/>
                    <a:pt x="241" y="6"/>
                    <a:pt x="241" y="8"/>
                  </a:cubicBezTo>
                  <a:cubicBezTo>
                    <a:pt x="241" y="26"/>
                    <a:pt x="229" y="44"/>
                    <a:pt x="206" y="58"/>
                  </a:cubicBezTo>
                  <a:cubicBezTo>
                    <a:pt x="159" y="85"/>
                    <a:pt x="83" y="85"/>
                    <a:pt x="35" y="58"/>
                  </a:cubicBezTo>
                  <a:cubicBezTo>
                    <a:pt x="12" y="44"/>
                    <a:pt x="0" y="26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8"/>
                    <a:pt x="12" y="36"/>
                    <a:pt x="35" y="50"/>
                  </a:cubicBezTo>
                  <a:cubicBezTo>
                    <a:pt x="83" y="77"/>
                    <a:pt x="159" y="77"/>
                    <a:pt x="206" y="50"/>
                  </a:cubicBezTo>
                  <a:cubicBezTo>
                    <a:pt x="229" y="37"/>
                    <a:pt x="241" y="19"/>
                    <a:pt x="241" y="1"/>
                  </a:cubicBezTo>
                  <a:cubicBezTo>
                    <a:pt x="241" y="1"/>
                    <a:pt x="241" y="1"/>
                    <a:pt x="241" y="1"/>
                  </a:cubicBezTo>
                  <a:cubicBezTo>
                    <a:pt x="241" y="1"/>
                    <a:pt x="241" y="1"/>
                    <a:pt x="241" y="1"/>
                  </a:cubicBezTo>
                  <a:close/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7000" y="647640"/>
              <a:ext cx="276120" cy="15912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17" y="27"/>
                  </a:moveTo>
                  <a:cubicBezTo>
                    <a:pt x="265" y="55"/>
                    <a:pt x="265" y="99"/>
                    <a:pt x="218" y="126"/>
                  </a:cubicBezTo>
                  <a:cubicBezTo>
                    <a:pt x="171" y="153"/>
                    <a:pt x="95" y="153"/>
                    <a:pt x="47" y="126"/>
                  </a:cubicBezTo>
                  <a:cubicBezTo>
                    <a:pt x="0" y="99"/>
                    <a:pt x="0" y="55"/>
                    <a:pt x="47" y="27"/>
                  </a:cubicBezTo>
                  <a:cubicBezTo>
                    <a:pt x="94" y="0"/>
                    <a:pt x="170" y="0"/>
                    <a:pt x="217" y="27"/>
                  </a:cubicBezTo>
                  <a:cubicBezTo>
                    <a:pt x="217" y="27"/>
                    <a:pt x="217" y="27"/>
                    <a:pt x="217" y="27"/>
                  </a:cubicBezTo>
                  <a:cubicBezTo>
                    <a:pt x="217" y="27"/>
                    <a:pt x="217" y="27"/>
                    <a:pt x="217" y="27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57920" y="946080"/>
              <a:ext cx="193320" cy="21384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96" y="56"/>
                  </a:moveTo>
                  <a:lnTo>
                    <a:pt x="96" y="106"/>
                  </a:lnTo>
                  <a:lnTo>
                    <a:pt x="0" y="50"/>
                  </a:lnTo>
                  <a:lnTo>
                    <a:pt x="0" y="0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266920" y="12700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968640" y="1628640"/>
            <a:ext cx="819360" cy="118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42800" y="281304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70160" y="2781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292720" y="1773360"/>
            <a:ext cx="1403280" cy="907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755640" y="3284640"/>
            <a:ext cx="719280" cy="103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2197080" y="3370320"/>
            <a:ext cx="1258920" cy="1000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11080" y="4365720"/>
            <a:ext cx="230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VM (Video Management 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7596360" y="0"/>
            <a:ext cx="869760" cy="1251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36040" y="2781360"/>
            <a:ext cx="231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M (Data Management Ser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7236000" y="1844640"/>
            <a:ext cx="1439640" cy="934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36040" y="1268280"/>
            <a:ext cx="231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M (Data Management Ser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3780000" y="3305160"/>
            <a:ext cx="1368360" cy="987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57200" y="437832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Fixed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3"/>
          <a:stretch/>
        </p:blipFill>
        <p:spPr>
          <a:xfrm>
            <a:off x="5508720" y="3297240"/>
            <a:ext cx="1258920" cy="987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08360" y="437832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Fixed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4"/>
          <a:stretch/>
        </p:blipFill>
        <p:spPr>
          <a:xfrm>
            <a:off x="393840" y="5157720"/>
            <a:ext cx="1079280" cy="784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4560" y="60213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TZ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5"/>
          <a:stretch/>
        </p:blipFill>
        <p:spPr>
          <a:xfrm>
            <a:off x="2195640" y="4797360"/>
            <a:ext cx="1150920" cy="1251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96360" y="60213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TZ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3924360" y="5013360"/>
            <a:ext cx="1295280" cy="941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66560" y="60213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ome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7"/>
          <a:stretch/>
        </p:blipFill>
        <p:spPr>
          <a:xfrm>
            <a:off x="5940360" y="5013360"/>
            <a:ext cx="851040" cy="922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8"/>
          <a:stretch/>
        </p:blipFill>
        <p:spPr>
          <a:xfrm>
            <a:off x="7524720" y="4724280"/>
            <a:ext cx="1079640" cy="119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451640" y="5935680"/>
            <a:ext cx="1306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me Cam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6000" y="5950080"/>
            <a:ext cx="144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me Cam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7480" y="429264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9"/>
          <a:stretch/>
        </p:blipFill>
        <p:spPr>
          <a:xfrm>
            <a:off x="7236000" y="3429000"/>
            <a:ext cx="12236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488880"/>
            <a:ext cx="1152360" cy="836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80000" y="411120"/>
            <a:ext cx="1296720" cy="94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1225440" cy="8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5160" y="1425600"/>
            <a:ext cx="32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DH-S (Optical Transceiver - Single Chann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75320" y="1425600"/>
            <a:ext cx="34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DH-M (Optical Transceiver - Multiple Chann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86236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836720" y="1913040"/>
            <a:ext cx="1258920" cy="1036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908000" y="488880"/>
            <a:ext cx="1258920" cy="99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508720" y="338040"/>
            <a:ext cx="1258920" cy="100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47840" y="293364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3924360" y="1916280"/>
            <a:ext cx="1079280" cy="787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96360" y="278280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C(en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5508720" y="1844640"/>
            <a:ext cx="1366920" cy="871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58560" y="277812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C(en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7451640" y="476280"/>
            <a:ext cx="1152720" cy="841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24360" y="138924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C (de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52720" y="277956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DC (deco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7308720" y="1844640"/>
            <a:ext cx="1441440" cy="916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179280" y="3500280"/>
            <a:ext cx="1368360" cy="993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96360" y="45021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/D 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9080" y="44989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E/D 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2052720" y="3344760"/>
            <a:ext cx="1366920" cy="1246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3924360" y="3500280"/>
            <a:ext cx="1079280" cy="779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580000" y="43657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Video Distrib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5508720" y="3355920"/>
            <a:ext cx="1474560" cy="1055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95640" y="43657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Video Distrib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5"/>
          <a:stretch/>
        </p:blipFill>
        <p:spPr>
          <a:xfrm>
            <a:off x="324000" y="5084640"/>
            <a:ext cx="1150920" cy="844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0200" y="60930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Key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6"/>
          <a:stretch/>
        </p:blipFill>
        <p:spPr>
          <a:xfrm>
            <a:off x="1763640" y="5084640"/>
            <a:ext cx="1368360" cy="91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089800" y="6021360"/>
            <a:ext cx="81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5435640" y="5157720"/>
            <a:ext cx="1189080" cy="817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8"/>
          <a:stretch/>
        </p:blipFill>
        <p:spPr>
          <a:xfrm>
            <a:off x="3922560" y="5084640"/>
            <a:ext cx="1079640" cy="785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284360" y="6021360"/>
            <a:ext cx="20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ONU (Optical Network Un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3840" y="4292640"/>
            <a:ext cx="175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assive Optical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3840" y="5977080"/>
            <a:ext cx="175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Passive Optical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9"/>
          <a:stretch/>
        </p:blipFill>
        <p:spPr>
          <a:xfrm>
            <a:off x="7524720" y="5084640"/>
            <a:ext cx="1222560" cy="854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0"/>
          <a:stretch/>
        </p:blipFill>
        <p:spPr>
          <a:xfrm>
            <a:off x="7524720" y="3325680"/>
            <a:ext cx="12225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5800" y="185904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TV-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6240" y="260280"/>
            <a:ext cx="868320" cy="1251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915840" cy="1346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780000" y="333360"/>
            <a:ext cx="957240" cy="1446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06720" y="19177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TV-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6160" y="191628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TV-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9:36:24Z</dcterms:created>
  <dc:creator>Alfred</dc:creator>
  <dc:description/>
  <dc:language>en-US</dc:language>
  <cp:lastModifiedBy>h3c</cp:lastModifiedBy>
  <dcterms:modified xsi:type="dcterms:W3CDTF">2006-12-18T01:20:26Z</dcterms:modified>
  <cp:revision>12</cp:revision>
  <dc:subject/>
  <dc:title>幻灯片 1</dc:title>
</cp:coreProperties>
</file>